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0D7-3FAF-4CC5-8F0D-37033CDA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48D-4BA2-41AE-9F5C-48E580CA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1F244-49EE-4530-8856-435178C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47DAF-7309-4FCD-B92B-68BFB24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36E6C-7930-4CC1-8249-E143C0F0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C48E4-AC1C-44BB-AA29-6D4DFEC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64614-0EB7-4A0C-B9C7-1FDF5B2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5DCB6-2E6B-4F2B-BE48-C91C623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6861A-0014-4657-81A8-DC181AC9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184F9-5D99-4717-AC43-8F3D92B4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0A298-5209-4ABF-90E8-F8A841BB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E203C-AE4A-4FC7-BA01-B4345B02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921-8ED7-4364-B529-7B09BA9D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FB774-A75E-463D-9F21-7CA8D77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3529B-6339-4736-99C9-00E4FC40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9E715-F162-49A8-B241-2F2BC9E0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1EE00-9F3B-4845-B8C3-9C59FF52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8F3D0-205A-4B6D-A812-F559E27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16752-2955-42AF-90B4-CCFBF37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753DF-1E89-4B52-AF85-A328C275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04BBD-24E6-4411-A0D9-446FCA4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4D885-8DA5-4D29-BE96-217BD335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3599F-05F3-4490-973B-007D040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FC3-FFC1-49AE-9B6C-9064F047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7DA94-740A-499E-B405-FBC07343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5804-9E54-4F54-A185-767C0299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C5FE6-BEE8-4907-9CCB-B4D7CD37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DD2C0-7EE4-4C72-8687-11A6B8F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7953D-6452-4D05-B4F7-023D677A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90570-337C-4DA1-A64F-D495A2B8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BD0CB-0E4E-46BD-A969-7094D049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74445-152A-41A2-96E8-E049D8C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DEF1-5C0C-4F6A-BDF5-D476D64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4B384-1E54-4A6E-B222-74FEC71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1016-AEAB-47FF-A63F-1377E310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CD4AA-7E95-493C-B594-BCDFD0C4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97312-E20F-4D07-9419-79A8A11F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38052-30AB-4C14-9FAD-BD1B0E17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D6D3F-BB3C-4168-853C-6D7A9A9E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1166B-9E34-4199-8F45-16C2D21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36210-6028-4280-8D50-49CB78E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7B7BD-F3C1-4D17-AF66-5454BC17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2702B-9F36-4515-9A48-E986D02B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48EFD-7439-4A5D-B11E-B1CD90C2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B4D04-62F4-4613-86A2-1E35AA6E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252B-5BD2-40FA-82BB-179E500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E254B-ECDF-4A2C-9301-CFF70C1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F8B0C-ABBC-41F8-AEB7-89BB136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23E0-921E-416A-B3C6-DD60DD85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343B4-1599-44EA-8C70-A3A816B3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37DAD-9154-4B3F-BD8E-A5D4C6C7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BB63-172A-4B42-BE27-90527748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5ED2-BF9E-4952-839F-9FC1428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6646-E18E-416C-8CD3-0F5E4ACA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D6C-9CCB-4951-8FF5-4D4B1DF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BF96-1F0B-4F3C-ADBD-CA7C296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44A-C9E4-4BE0-936B-A9397C2D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A14C-3BD2-48AB-B706-1F732FB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59D-16A5-44C6-B199-5BB7C4B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9B75-4092-4CB4-B524-E3E74C9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C9A8-9803-43FA-ADCE-B28E6A42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8D12-ECF5-43B7-A9DC-69FC8543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EADD-5F7A-4104-9C8D-BEDDFBA6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02DF-3884-443A-98A5-262F1C6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F4E3-3695-4CB3-A141-2A61D419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D304-6239-447B-9D86-F443A7C2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9922F-52CB-4B08-9AA3-899B93FE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3A4-E898-460C-93EB-301A6E3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E287-91A4-4CFD-AF79-FC50E72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B1B8-B4F3-482D-B928-5C98EF5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9AD2-0F8D-46FF-ABC5-688CB7BB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B90E-A325-4755-BE62-BA45AAC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D8AF-85E0-433A-A1E5-9DBD063A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D8EC-A6E8-4235-ABF8-C1D817AC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842F-B4BA-48AF-9DC2-ECDF5DE1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5952E-D462-4579-9DF6-C798C984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33A0-4742-41F4-B849-B4FE3E0F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457A-EDC4-48B6-B3CD-1A63F0C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AF6-4176-4BF9-8CE9-095CBFAE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3124-A0B5-47E6-B841-49810CFA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E7D2-636E-4A4A-B55A-CB280EAF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7F71-7D58-4BC6-91F6-06B45331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F0E8-5C84-4961-8E08-AD492DEB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B097-6509-435B-8AE6-693BA1B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FEF1-E343-4DD3-965E-CA5197CC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97E5-5890-4EAE-AE81-8BBC1A8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7FA2A-A6E1-4E30-9129-82C2EE53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0D70-508A-4670-9E01-EE9C2409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5F1C3-A1FB-45BF-B254-F33BC36F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650-8892-4FF4-8451-D5FB4813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8159-F880-454F-AE9D-B2517F4B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6691A-1B4C-40F3-9DC9-71ED6FA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6963-20F7-44C7-B34A-FB4155C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1D6F-0098-4C56-ACA1-E707433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7A8C-5380-42BD-9105-4BC658AF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41E0-5357-459E-AB36-AE43CBE1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0F08-A6AC-4E4E-946E-0E5FBE7A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D98F-B6C7-4B73-AEB0-EF0769EA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95FC-3A37-4755-9B30-3F7698A3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34B7-1A33-4080-A7CB-3690E563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5D8-404E-4527-AAE7-EC3764B6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2F88-E16D-4BF1-A7D4-EC4B6C12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69410-1913-4BA8-A2EB-8DF101E2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8406F-4A54-4259-B4F5-1E684F2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C310-813B-413F-BFBC-5661FD5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B1E5-6FD7-48C8-93E5-2E9DACE5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7F99-07BF-4152-A977-3A510DF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FCA5-C881-41FD-B6DE-9FC10E51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C699-120C-4171-BA05-ED823E7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BC43B-9C40-4453-B95E-0DB15CE3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A925-EF8D-4C39-BE46-D1D935D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BA8-93C1-44A1-92E4-6E0936B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EE53-FD0D-4C74-AF3F-EF6A7E13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3B5A-5E57-4B8E-9814-3503FF28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A6DB6-272A-42F0-BFB5-2082D273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9416C-EE8F-4066-B4C2-04B39155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8032-46B1-4634-AC19-90BC00A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CC9F0-621E-48EC-B9BC-47FBC45B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9C199-B5F9-4A23-BA21-8AEE075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C01C0-E311-47B9-827C-B3DFE144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AF70-5105-43F3-8CB4-CCA014DC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439B-4BF9-4A06-878D-553E729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946-46D0-42FA-A339-BBBA0E75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D993-8946-4F83-8927-BE583B6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00217-6B43-4699-8910-380AA55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BF955-09F0-429E-86D7-CA56092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5A429-30E7-4C9C-809C-B7EC86CB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BF215-C6F6-44FE-98F6-2ED0FE86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2D3C-77B6-41D1-9263-88FC3488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79D7-88D4-45FA-A5FB-D1E2AF78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CEB17-E784-4DEB-A3C5-9AFFD587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EF99A-880C-4673-A855-360A2BEE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F9B2D-AB99-495F-9D16-84C1A5C9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559-BE5C-4391-B43B-1B6A998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1A401-8A33-4A83-A4F7-806C4C4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A4D1-5808-4533-AC5F-C861229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E4F7-F755-4549-8534-A0A5018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53E3-A550-4D0B-A484-C0E32E8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9FF3-D480-4423-87A3-297BDF8D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35DBA-94CB-4DF8-A019-4962ADEB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CFE76-D923-4B3E-BBCE-CA336DB8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DF925-063E-42D9-B934-75AB31AE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8CBE2-BC17-42A3-9318-92873789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D37D9-2B13-42E0-B64F-186A76DC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B1420-D162-4DC8-B9C0-FE55E80A88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FF651-0E08-4692-84C0-F60DE477A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513BE13-B8D3-4A0D-B872-D6C88FABF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54655-CB69-4AB7-ACA6-EB61486772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D1EBC-593A-43A2-AF81-AF249DDED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3BCBC-D613-4D8D-A195-5298E1983C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1F517-A383-4F78-9702-69688D0B6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CB42E-3D82-4434-8282-B21B7D4AA4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133DE-A35A-46DD-A3AB-455C7CB0A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7232A-75F2-464A-9185-DD4DB71C36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F07DB-CF72-4A53-8255-75ECB7658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ACD89-5AA1-43BF-BCCA-A29CF49B75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DB1FF-9F08-4EE9-8061-E0BAE449C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A9F15-7FB4-42C5-B6CE-042D8A7ADD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9AF45-749F-4872-9E31-CBB68A530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330E1-2837-4CB0-A0A7-A87FCFB0F6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BA1D2-69FA-4E2F-925C-6E3CE0D09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C4C0E-888D-4DC3-90D9-E5DF9EE074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C2B8E-2A85-4EC1-AAB5-D92D0A75F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EDE78-6479-434E-91B9-E3A544D95B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9F775-E8C5-4FC4-951E-3FDAF2F0A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BB997-DBB6-4908-81DF-9185C05C18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AB24F-8F36-4457-8DBE-2B9D10779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8CC39-B326-4DB8-B7F4-5A073C4FBC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228BB-AB34-4ECD-9941-6A279E399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33A66-56BD-404C-B2BD-FACEA7382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0126A-F3DC-4952-AA32-B24E894FB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810A0-F7A4-4F4A-8C05-24948FD77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9138-A8D1-488F-A8E5-AAB8192E6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A8DCE-B3B0-4A0B-A5C0-68E19FE22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1B983-2131-4267-8C91-64400F1FB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FE8D5-D600-4C60-8B19-BABF943AD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4606E-41B3-4760-AA76-ADF617B6B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A8FE5-7A18-46F1-9DB5-F81A155F3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B4EE6-B538-488B-A3D2-A8C9E1E54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3E9E5-5772-4D5E-A9B5-20C36234B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4FBC9-BE36-4471-AF85-59E0F02C5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0155B-1CD8-4009-9A6A-322E78458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55C64-8755-41FD-A097-3172B1B13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91FAB-4565-4599-86A2-440DFDFBA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328DA-739F-406C-ABF1-0FE9D0893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259B6-2704-4A36-B398-961A551FF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3DD5-E309-4A8E-B48D-62B294CC1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8CA9D-BFA5-4950-9F96-79173DEDA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C4962-76CB-4D80-A64D-6CA1C1D8D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73D9B-1976-4861-BB8D-E8DEBE89E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1E371-B78D-494D-90E9-BDC230ACD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C5C7F-8A7D-49E7-8D15-ED9D25676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CB8F5-92C3-43DB-874F-51C597F07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F1E08-A270-4A45-9F43-A8C63DBBD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2A9CC-B838-453D-B196-A5B4A2434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D32A2-6718-4825-BF0D-5D66277DD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26CDE-BA44-40E2-85B5-B0E8515D5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CD6BF-B07C-4EB0-A1BB-03E4615EB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6B7CD-F8BB-4940-A1FC-248651C46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BD7EB-8B00-47A2-B8F5-7A8C648E5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DA31C-CE64-4B5E-ACB5-25FAB9CE0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1B290-FEA1-4FDF-B873-34616674C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9:40:02Z</dcterms:modified>
  <cp:revision>74</cp:revision>
  <dc:subject/>
  <dc:title>Titulní strana – Titulek</dc:title>
</cp:coreProperties>
</file>